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breeze.wav" ContentType="audio/x-wav"/>
  <Override PartName="/ppt/media/image2.jpeg" ContentType="image/jpeg"/>
  <Override PartName="/ppt/media/arrow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089-02BA-4856-BAA9-A07BE34B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7D7-2AF8-4BFA-B633-E7F920F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F17-149B-45F0-A3F5-311A5219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2AA-6F53-422C-88D6-D988696D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B29-2C1A-42A3-BC27-9DC57FA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1DC-5381-4A5E-B7AB-5E26DA3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94A-2D4B-43F1-B63C-19F2D4B6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BCB-271F-40CC-A36E-7C22445E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4EB-BFF9-4FF1-A0BB-9F40F028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2D8-889C-4D45-A9E2-5997226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D9F-3705-4317-A969-0FCE2D7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C45-B79C-4B5D-9A8D-EABB9EF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93F6-53F6-4518-8C53-B510CF907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bensguide.gpo.gov/3-5/state/georgia.html" TargetMode="External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ostcardsfrom.com/t1/000523.html" TargetMode="External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0292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stan 3/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990720"/>
            <a:ext cx="5867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0066ff"/>
                    </a:gs>
                    <a:gs pos="100000">
                      <a:srgbClr val="33cccc"/>
                    </a:gs>
                  </a:gsLst>
                  <a:lin ang="5400000"/>
                </a:gradFill>
                <a:latin typeface="Impact"/>
              </a:rPr>
              <a:t>GEORG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0066ff"/>
                  </a:gs>
                  <a:gs pos="100000">
                    <a:srgbClr val="33cc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-At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-8,186,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-Januar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-wisdom,justice,and mo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name-peac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-Cherokee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ird-brown thra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-Georgia on my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-to honor king George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's newest flag was designed may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ree is live 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Georgia: Map and State Flag"/>
          <p:cNvPicPr/>
          <p:nvPr/>
        </p:nvPicPr>
        <p:blipFill>
          <a:blip r:embed="rId1"/>
          <a:srcRect l="0" t="0" r="0" b="65017"/>
          <a:stretch/>
        </p:blipFill>
        <p:spPr>
          <a:xfrm>
            <a:off x="5638680" y="2514600"/>
            <a:ext cx="259092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Georgia: Map and State Flag"/>
          <p:cNvPicPr/>
          <p:nvPr/>
        </p:nvPicPr>
        <p:blipFill>
          <a:blip r:embed="rId2"/>
          <a:srcRect l="0" t="34782" r="-61519" b="-15921"/>
          <a:stretch/>
        </p:blipFill>
        <p:spPr>
          <a:xfrm>
            <a:off x="2743200" y="3962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4343400"/>
            <a:ext cx="2666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.S. government for kid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: 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/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georg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4724280"/>
            <a:ext cx="5638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from.c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ne mountian,georgia postca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00052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3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7:30Z</dcterms:created>
  <dc:creator>install</dc:creator>
  <dc:description/>
  <dc:language>en-US</dc:language>
  <cp:lastModifiedBy>install</cp:lastModifiedBy>
  <dcterms:modified xsi:type="dcterms:W3CDTF">2011-03-16T15:55:34Z</dcterms:modified>
  <cp:revision>7</cp:revision>
  <dc:subject/>
  <dc:title>Slide 1</dc:title>
</cp:coreProperties>
</file>